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9F6-E1B9-40AB-ADDA-57D224B3A0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D10F-3092-4C99-AB8D-0D4C2DCE5F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C4B-F0F3-4315-AADD-6E51AF3099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B683-268C-4A0D-AC1B-8E472D8758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0D6-D343-43F7-8349-345CE8E16C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728-628C-4376-984D-1E902A5603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495-B7DC-488B-9C45-C244288213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F8DB-AF52-498A-9159-A649032173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EEB2-AD07-40A2-98E6-C45D21CD5A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7E18-83EE-4F58-A3EA-8EDFD78C7F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A06-A919-4EDB-8E59-B47AF799A9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345-5C7A-4314-B08A-61418B35CA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156C-3770-4CD7-9481-2810597764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DF9-6A92-4775-AABA-F911B35B52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77F-0B0B-4363-9470-E718405E83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5DBC-05C0-4E65-8091-86F90C1B04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76AB-79BA-48B7-8CAE-FF15D2BC4B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170F-DC42-4D2B-BD00-F9CF9FAC36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093-F6DD-408A-8D6A-04C94C8B5C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C580-C9C9-419D-9829-24E91E75C4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F3CA-5240-4843-B689-C8FF9BAD6C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C6D1-DF34-41B1-A3A6-3D7EFEDE9C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43D2-2730-49EB-AE66-58B2DB6C8E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A17-AFA2-4C97-A4A7-9E396F2CD1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4700-DBBB-422F-B975-5D7C5F138A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A7E-EA5E-4DD9-9BC0-5F7FEE8F5F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097A-22E1-4800-95B8-384DF7F183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FDB9-117F-4593-A055-64517AC040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47A-CA9E-4648-A2F5-02D0C185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BA9-86EA-48CD-A1E7-1F068E82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B8E-4177-4BE2-BE6B-F351BEC8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3A8-6681-4BDA-8CA0-57DCBE47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BFE-845D-418C-A124-27E5D14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F94-7F16-44AE-AB18-E81910EB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83B-83A8-4A31-8741-DA319AE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E1D-9E28-4E9A-8EC0-EA9E0E6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693-C155-47A1-AB6E-7B393510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78-A6A6-4B47-AC45-13BBFC6F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4A5-5C54-4C9F-A5AC-05264F2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DE0-9A8B-433B-B994-245966F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42B0-16AF-4754-A1C6-A8613BA95E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features of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al tr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oonal tropics contain large human populations which are devastating the ec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inter, wind is cool from interior, creating dry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spring onwards, temperatures slowly incr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late summer continental heating causes onshore winds which (hopefully) bring monsoonal r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0% of rainfall in summer, but erratic &amp; locally variable. Floods and droughts common &amp; unpredic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as per wet-tr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so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rt from where volcanic, soils are old (not renewed by glaciation) and l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strateg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 forest clea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ore humus with green manure crops and interplant/intercrop / 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small quantities of nutrient at regular intervals so plants can take it up before it is lea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 perennials instead of annual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oriented to wind, not sun; lightweight &amp; well ventilated, but may need anchoring or refuge for cyclone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t season is ‘hungry tim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insect pests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tore for winter growing in wet-dry tr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rricane/tsunami protective earth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cool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? - most of Europe, China, Japan, upper North America, Canada, Andean slopes and southern half of South America, SE Australia and mountains of SW 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sonal impact of frost, snow,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winter rainfall, drought late s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lant growth in spring and s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landscape prior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85920" y="1600200"/>
            <a:ext cx="740088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system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 system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85880" y="42861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priority is space &amp; water heating as these consume greates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young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ed by steep slopes (e.g. NZ) hence risk of erosion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off-contour cut-n-fill excavation (e.g. use pole hou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contour tracks and terraces (SE As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raced perennial or interplanted gardens  (biomass held in vegetation, not s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-electric power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mature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red human settlement sites where broadscale agriculture develop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slopes colder &amp; frost prone but good water collection and forest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lands frost and sometimes flood-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mediate/lower slopes include thermal belt &amp; best for cul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599840"/>
            <a:ext cx="24717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sted ri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4457880" y="2824200"/>
            <a:ext cx="3971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point: where slope changes from convex to conc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sosceles Triangle 13"/>
          <p:cNvSpPr/>
          <p:nvPr/>
        </p:nvSpPr>
        <p:spPr>
          <a:xfrm>
            <a:off x="1143000" y="20718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sosceles Triangle 14"/>
          <p:cNvSpPr/>
          <p:nvPr/>
        </p:nvSpPr>
        <p:spPr>
          <a:xfrm>
            <a:off x="1295280" y="22240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sosceles Triangle 15"/>
          <p:cNvSpPr/>
          <p:nvPr/>
        </p:nvSpPr>
        <p:spPr>
          <a:xfrm>
            <a:off x="1447920" y="23763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sosceles Triangle 16"/>
          <p:cNvSpPr/>
          <p:nvPr/>
        </p:nvSpPr>
        <p:spPr>
          <a:xfrm>
            <a:off x="1600200" y="2529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sosceles Triangle 17"/>
          <p:cNvSpPr/>
          <p:nvPr/>
        </p:nvSpPr>
        <p:spPr>
          <a:xfrm>
            <a:off x="1752480" y="2681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sosceles Triangle 18"/>
          <p:cNvSpPr/>
          <p:nvPr/>
        </p:nvSpPr>
        <p:spPr>
          <a:xfrm>
            <a:off x="1905120" y="28335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19"/>
          <p:cNvSpPr/>
          <p:nvPr/>
        </p:nvSpPr>
        <p:spPr>
          <a:xfrm>
            <a:off x="2057400" y="2986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sosceles Triangle 20"/>
          <p:cNvSpPr/>
          <p:nvPr/>
        </p:nvSpPr>
        <p:spPr>
          <a:xfrm>
            <a:off x="1857240" y="21430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sosceles Triangle 21"/>
          <p:cNvSpPr/>
          <p:nvPr/>
        </p:nvSpPr>
        <p:spPr>
          <a:xfrm>
            <a:off x="2009880" y="22953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22"/>
          <p:cNvSpPr/>
          <p:nvPr/>
        </p:nvSpPr>
        <p:spPr>
          <a:xfrm>
            <a:off x="2162160" y="2448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sosceles Triangle 23"/>
          <p:cNvSpPr/>
          <p:nvPr/>
        </p:nvSpPr>
        <p:spPr>
          <a:xfrm>
            <a:off x="2314440" y="2600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sosceles Triangle 24"/>
          <p:cNvSpPr/>
          <p:nvPr/>
        </p:nvSpPr>
        <p:spPr>
          <a:xfrm>
            <a:off x="928800" y="27525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25"/>
          <p:cNvSpPr/>
          <p:nvPr/>
        </p:nvSpPr>
        <p:spPr>
          <a:xfrm>
            <a:off x="1033560" y="250020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26"/>
          <p:cNvSpPr/>
          <p:nvPr/>
        </p:nvSpPr>
        <p:spPr>
          <a:xfrm>
            <a:off x="1571760" y="20718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sosceles Triangle 27"/>
          <p:cNvSpPr/>
          <p:nvPr/>
        </p:nvSpPr>
        <p:spPr>
          <a:xfrm>
            <a:off x="1724040" y="22240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sosceles Triangle 28"/>
          <p:cNvSpPr/>
          <p:nvPr/>
        </p:nvSpPr>
        <p:spPr>
          <a:xfrm>
            <a:off x="1876320" y="23763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sosceles Triangle 29"/>
          <p:cNvSpPr/>
          <p:nvPr/>
        </p:nvSpPr>
        <p:spPr>
          <a:xfrm>
            <a:off x="2028960" y="2529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30"/>
          <p:cNvSpPr/>
          <p:nvPr/>
        </p:nvSpPr>
        <p:spPr>
          <a:xfrm>
            <a:off x="2181240" y="2681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31"/>
          <p:cNvSpPr/>
          <p:nvPr/>
        </p:nvSpPr>
        <p:spPr>
          <a:xfrm>
            <a:off x="1071720" y="2295360"/>
            <a:ext cx="14256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sosceles Triangle 32"/>
          <p:cNvSpPr/>
          <p:nvPr/>
        </p:nvSpPr>
        <p:spPr>
          <a:xfrm>
            <a:off x="1224000" y="2448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sosceles Triangle 33"/>
          <p:cNvSpPr/>
          <p:nvPr/>
        </p:nvSpPr>
        <p:spPr>
          <a:xfrm>
            <a:off x="1376280" y="26002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34"/>
          <p:cNvSpPr/>
          <p:nvPr/>
        </p:nvSpPr>
        <p:spPr>
          <a:xfrm>
            <a:off x="1528920" y="2752560"/>
            <a:ext cx="14256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35"/>
          <p:cNvSpPr/>
          <p:nvPr/>
        </p:nvSpPr>
        <p:spPr>
          <a:xfrm>
            <a:off x="1681200" y="2905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sosceles Triangle 36"/>
          <p:cNvSpPr/>
          <p:nvPr/>
        </p:nvSpPr>
        <p:spPr>
          <a:xfrm>
            <a:off x="2286000" y="22860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sosceles Triangle 37"/>
          <p:cNvSpPr/>
          <p:nvPr/>
        </p:nvSpPr>
        <p:spPr>
          <a:xfrm>
            <a:off x="2438280" y="243828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38"/>
          <p:cNvSpPr/>
          <p:nvPr/>
        </p:nvSpPr>
        <p:spPr>
          <a:xfrm>
            <a:off x="1052640" y="259092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sosceles Triangle 39"/>
          <p:cNvSpPr/>
          <p:nvPr/>
        </p:nvSpPr>
        <p:spPr>
          <a:xfrm>
            <a:off x="1204920" y="2743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sosceles Triangle 40"/>
          <p:cNvSpPr/>
          <p:nvPr/>
        </p:nvSpPr>
        <p:spPr>
          <a:xfrm>
            <a:off x="1357200" y="289548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5"/>
          <p:cNvCxnSpPr/>
          <p:nvPr/>
        </p:nvCxnSpPr>
        <p:spPr>
          <a:xfrm flipH="1">
            <a:off x="4357080" y="3161160"/>
            <a:ext cx="386280" cy="338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Straight Connector 47"/>
          <p:cNvSpPr/>
          <p:nvPr/>
        </p:nvSpPr>
        <p:spPr>
          <a:xfrm>
            <a:off x="3714840" y="4143240"/>
            <a:ext cx="3000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48"/>
          <p:cNvSpPr/>
          <p:nvPr/>
        </p:nvSpPr>
        <p:spPr>
          <a:xfrm>
            <a:off x="3867120" y="5141880"/>
            <a:ext cx="3000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5315040" y="4286160"/>
            <a:ext cx="3257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mal belt: ideal for h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sosceles Triangle 50"/>
          <p:cNvSpPr/>
          <p:nvPr/>
        </p:nvSpPr>
        <p:spPr>
          <a:xfrm>
            <a:off x="2824200" y="255276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sosceles Triangle 51"/>
          <p:cNvSpPr/>
          <p:nvPr/>
        </p:nvSpPr>
        <p:spPr>
          <a:xfrm>
            <a:off x="2976480" y="270504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sosceles Triangle 52"/>
          <p:cNvSpPr/>
          <p:nvPr/>
        </p:nvSpPr>
        <p:spPr>
          <a:xfrm>
            <a:off x="3129120" y="2857680"/>
            <a:ext cx="14256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53"/>
          <p:cNvSpPr/>
          <p:nvPr/>
        </p:nvSpPr>
        <p:spPr>
          <a:xfrm>
            <a:off x="2600280" y="262404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54"/>
          <p:cNvSpPr/>
          <p:nvPr/>
        </p:nvSpPr>
        <p:spPr>
          <a:xfrm>
            <a:off x="2752560" y="27766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sosceles Triangle 55"/>
          <p:cNvSpPr/>
          <p:nvPr/>
        </p:nvSpPr>
        <p:spPr>
          <a:xfrm>
            <a:off x="2428920" y="276696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sosceles Triangle 56"/>
          <p:cNvSpPr/>
          <p:nvPr/>
        </p:nvSpPr>
        <p:spPr>
          <a:xfrm>
            <a:off x="2695680" y="2833560"/>
            <a:ext cx="142920" cy="35748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57"/>
          <p:cNvSpPr/>
          <p:nvPr/>
        </p:nvSpPr>
        <p:spPr>
          <a:xfrm>
            <a:off x="2847960" y="2986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sosceles Triangle 58"/>
          <p:cNvSpPr/>
          <p:nvPr/>
        </p:nvSpPr>
        <p:spPr>
          <a:xfrm>
            <a:off x="3000240" y="31384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sosceles Triangle 59"/>
          <p:cNvSpPr/>
          <p:nvPr/>
        </p:nvSpPr>
        <p:spPr>
          <a:xfrm>
            <a:off x="2471760" y="290520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sosceles Triangle 60"/>
          <p:cNvSpPr/>
          <p:nvPr/>
        </p:nvSpPr>
        <p:spPr>
          <a:xfrm>
            <a:off x="2624040" y="305748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sosceles Triangle 61"/>
          <p:cNvSpPr/>
          <p:nvPr/>
        </p:nvSpPr>
        <p:spPr>
          <a:xfrm>
            <a:off x="2300400" y="3048120"/>
            <a:ext cx="142920" cy="357120"/>
          </a:xfrm>
          <a:prstGeom prst="triangle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803160"/>
            <a:ext cx="9072720" cy="463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2920" y="398520"/>
            <a:ext cx="87868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line (PA Yeoma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Keyline Pl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5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ater for every fa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6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ater for every farm using the keyline pl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7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aim is soil improvement through water storage and infiltration into the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small dams high in landscape.  High contour dams are built above the key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ivation is parallel to the keyline (Diag p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scape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id – more moisture than eva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id – more evaporation than mois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ng – mature – old” part of Davis’ (late 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heory of sequential landscape develop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key factors: geological structure, weathering/erosion and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ed by rapid uplift, then gradual aging (if no tectonic activity) until old age when cycle repeats ag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ories and non-cyclical theories exi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rial view of keyline p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line (PA Yeoma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conserved water… is in direct proportion to the height of the storage.  Dams of …greatest value are those in… high country” (p. 4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line dams have pipes through wall so that full gravity pressure is available for irrig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ight slope drains take overflow water from dam to dam. Drains can be temporaily blocked to overflow and flood land below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line principles CAN be applied to land without a key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old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end of the ‘aging’ process, valley terraces and floodplains dominate, requir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od mitigation (levees, embankments, elevated homes, homes on high l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high ground for 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ing to reduce frost, waterlogging and flood erosion on valley bot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dge top tree planting to counter sal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ainfall and high evapor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desert, steppe, scrublands, up to dry savannah fore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fall typically below 80 cm per year and highly variable in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grazing the most destructive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od erosion also a problem in some ari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ing in arid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ign for summer/day cooling and winter/night warmth.  Thick walls, small windows (none to West), flat roof, insulated ceilings, underground cell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ol courtyards with narrow, tall (multi storey) buildings to shade th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ter in tanks. Evaporative cooling using water wicks &amp; towers/vanes/airscoop venti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ximise narrow E-W stre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ok outdoors under sha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ves or earth-sheltered housing a good op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 area desig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ork as high in catchment as possible; work downstream as plants estab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ed soil &amp; water testing needed due to existing imbalances and delicate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indbreak plantings up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 pelleted seed over large area to await favourable 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establish garden oases at favoured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 area desig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for water trapping, retention &amp; recycling include stone or other mulch, wide swales, interceptor banks, wicking beds, trickle irrigation, pot systems, condensation traps, windbreaks, shaded gard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inity control measures may be need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bores or pumped well water faster than rechar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or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canic plains: fertile soils (lava &amp; ash), need for wind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stal sand plains: plantings to cope with wind erosion, salt spray, sandy so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al islands: windbreaks and foreshore plantings, building soils, water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tlands: high productivity, chinampa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aries: very productive, fish traps, shell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d and humid weathering comp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0001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t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 vege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se chemical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ly uniform landscape evolution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288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0001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re, seasonal, often violent rainf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 or absent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rse – no continuous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chemical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sodic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maculture Design Man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7 –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8 – So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9 – Earthworking and earth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10 – The humid tr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11 – Dryland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 12 – Humid cool to cold cl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across many temperature ranges; tropics to cool temperate z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both young volcanic landscapes of SE Asia &amp; ancient depleted areas of SE Austr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autious of making broad generalisations across such diverse ranges; while some general principles DO apply, there is great local variation which must be consi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id warm landsc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?  Wet &amp; monsoonal tropics: Amazon &amp; Congo basins, Central America, Sri Lanka, Malaya, Borneo, New Guinea, Indonesia, Thailand, Timor, northern Australia, southern India  [excludes arid tropics and cold (elevated) tropic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t tr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ly populated only where volcanic soils enable cultivation (e.g. Ja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ay contain remnant tri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consider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head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dity constantly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 most days of year and frequently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5% of nutrients held in plants &amp;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t tropics housing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essentials are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wat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gienic faeces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c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p r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eable 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t-dry tr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eward of the wet tropics (e.g. Pacific islands, Yucatan peninsula, ‘wet’ African grassla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ter is a dry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idity is 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similar to wet tropics: high rain and episodic flooding (inc erosion) more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22:24:44Z</dcterms:created>
  <dc:creator>Steve Burns</dc:creator>
  <dc:description/>
  <dc:language>en-US</dc:language>
  <cp:lastModifiedBy>Steve Burns</cp:lastModifiedBy>
  <dcterms:modified xsi:type="dcterms:W3CDTF">2012-04-09T11:07:20Z</dcterms:modified>
  <cp:revision>23</cp:revision>
  <dc:subject/>
  <dc:title>Design features of landscapes</dc:title>
</cp:coreProperties>
</file>